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D10-8CDF-44E8-9B6C-8F5EC5CB6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06FE-1F35-4F72-BBD6-A79DE3A79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47F-1F87-4961-9216-6FA330FF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DA9-2852-45A9-B96D-8EEE595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636-D27E-4254-BDBA-891CD2F4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A37-E4A9-431F-BCA3-2F00A542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DA4-7A0D-4DCD-A4B8-2D0AA5B5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863-1DA5-46AD-A438-EFBDE72A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17C-26F6-4300-97A7-823FDCC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10F-81C7-42CE-AB5E-15D0C669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16A-E6D2-451E-BDA7-E5A95C2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083-03DF-493A-933E-AFFDEB64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29B-3FE8-4AE0-A3AF-886DFCC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D7C-8C52-4D0F-8733-9F39E95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DF0-49A8-4ED9-8D40-7FD8E7895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African American Sen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: Julia Buniak</a:t>
            </a: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5000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Lif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ayetteville_nc"/>
          <p:cNvPicPr/>
          <p:nvPr/>
        </p:nvPicPr>
        <p:blipFill>
          <a:blip r:embed="rId1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26668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Fayetteville, North Carolina where Hiram Revels was b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arket-house-fayetteville-nc"/>
          <p:cNvPicPr/>
          <p:nvPr/>
        </p:nvPicPr>
        <p:blipFill>
          <a:blip r:embed="rId2"/>
          <a:stretch/>
        </p:blipFill>
        <p:spPr>
          <a:xfrm>
            <a:off x="6638760" y="0"/>
            <a:ext cx="250524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629400" y="2971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rket house in Fayetteville, North Caro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Ame sheild"/>
          <p:cNvPicPr/>
          <p:nvPr/>
        </p:nvPicPr>
        <p:blipFill>
          <a:blip r:embed="rId1"/>
          <a:stretch/>
        </p:blipFill>
        <p:spPr>
          <a:xfrm>
            <a:off x="2971800" y="1905120"/>
            <a:ext cx="2565360" cy="2732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76720" y="487692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AME Church Shield where Hiram Revels became the min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north and south flags.jpg"/>
          <p:cNvPicPr/>
          <p:nvPr/>
        </p:nvPicPr>
        <p:blipFill>
          <a:blip r:embed="rId1"/>
          <a:stretch/>
        </p:blipFill>
        <p:spPr>
          <a:xfrm>
            <a:off x="2895480" y="2362320"/>
            <a:ext cx="306072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picture of the Union and Confederate flags of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838080" y="31240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was on the Union side, who were fighting for the slave’s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iram revels and other colored government officals.jpg"/>
          <p:cNvPicPr/>
          <p:nvPr/>
        </p:nvPicPr>
        <p:blipFill>
          <a:blip r:embed="rId1"/>
          <a:stretch/>
        </p:blipFill>
        <p:spPr>
          <a:xfrm>
            <a:off x="3276720" y="2590920"/>
            <a:ext cx="2498760" cy="1968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295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iram Revels (Left) and other black government officials who served in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638680" y="28195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was still the first black to serve in the off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e Had to Accomplis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ivil right act of 1866.jpg"/>
          <p:cNvPicPr/>
          <p:nvPr/>
        </p:nvPicPr>
        <p:blipFill>
          <a:blip r:embed="rId1"/>
          <a:stretch/>
        </p:blipFill>
        <p:spPr>
          <a:xfrm>
            <a:off x="2716200" y="2133720"/>
            <a:ext cx="362736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3733920" y="4876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ivil Rights Act of 18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His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lcorn college.jpg"/>
          <p:cNvPicPr/>
          <p:nvPr/>
        </p:nvPicPr>
        <p:blipFill>
          <a:blip r:embed="rId1"/>
          <a:stretch/>
        </p:blipFill>
        <p:spPr>
          <a:xfrm>
            <a:off x="3124080" y="2438280"/>
            <a:ext cx="3206880" cy="2446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733920" y="48769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corn College where Hiram Revels became the pres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Hiram Revels Picture.jpg"/>
          <p:cNvPicPr/>
          <p:nvPr/>
        </p:nvPicPr>
        <p:blipFill>
          <a:blip r:embed="rId1"/>
          <a:stretch/>
        </p:blipFill>
        <p:spPr>
          <a:xfrm>
            <a:off x="2666880" y="182880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600200" y="5029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am Revels September 27, 1827- January 16, 1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iram revels tomb.jpg"/>
          <p:cNvPicPr/>
          <p:nvPr/>
        </p:nvPicPr>
        <p:blipFill>
          <a:blip r:embed="rId2"/>
          <a:stretch/>
        </p:blipFill>
        <p:spPr>
          <a:xfrm>
            <a:off x="4800600" y="182880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p:transition advTm="120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14:58Z</dcterms:created>
  <dc:creator>Owner</dc:creator>
  <dc:description/>
  <dc:language>en-US</dc:language>
  <cp:lastModifiedBy>Owner</cp:lastModifiedBy>
  <dcterms:modified xsi:type="dcterms:W3CDTF">2012-02-15T14:28:35Z</dcterms:modified>
  <cp:revision>18</cp:revision>
  <dc:subject/>
  <dc:title>First African American Senator </dc:title>
</cp:coreProperties>
</file>